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B583-E4CD-43D6-A661-7A4BF4A2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923FE-008C-43B4-8B8A-38306C9F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12C05-F0D1-42DF-8F07-1DAAE936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68943-B602-4A2D-8A41-56C2E0FA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7971-871B-47EB-A6B9-53952B1E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6E95-D8F6-4284-A345-8155F54A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8E71-CE20-4629-9C52-D04BDD1E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B24D-0377-48A5-8CBA-33523878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C631-442D-4AF5-8642-BC871AA5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268E-C465-43B3-BB0D-8C1575FB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C003-32FF-49B6-BA57-30574888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3451A-C2AB-4364-B4B6-0EF81CA1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A392-508B-4C4E-BB7C-7667C3D7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64F4-84C5-4899-B62B-A5F29C16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DADE-4B64-43B0-A07D-2BC9A871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59F9-2AC9-413A-B9B9-3E5E7F38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EBD2-E241-4CB2-9602-E7DEBC52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52FB4-5A67-4286-8089-C56128BD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DE65A-DFE0-482A-AAC0-5E7307C2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34805-C3F3-4B4B-9B9F-472AE1A9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A6A7A-09F6-4A5E-8EA1-AB8BCCD0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CD215-CA53-439B-A496-D56912CE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17346-DBE2-46AA-87EA-DAE7C600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020A1-4389-437A-A175-2CFE14DB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562D-DE6A-43A4-9222-3163A3D7EA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0C40-1935-49FB-BF34-55949909EF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16360" y="692280"/>
            <a:ext cx="586728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ff"/>
                </a:solidFill>
                <a:latin typeface="comic"/>
              </a:rPr>
              <a:t>A Trashed Slid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76520" y="4292640"/>
            <a:ext cx="5790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radley Hand ITC"/>
              </a:rPr>
              <a:t>Totall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990000"/>
                </a:solidFill>
                <a:latin typeface="Castellar"/>
              </a:rPr>
              <a:t>Really Trashed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2492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pperplate Gothic Bold"/>
              </a:rPr>
              <a:t>Why Oh Why do they do i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5:04:23Z</dcterms:created>
  <dc:creator>John Wilson</dc:creator>
  <dc:description/>
  <dc:language>en-US</dc:language>
  <cp:lastModifiedBy>John Wilson</cp:lastModifiedBy>
  <dcterms:modified xsi:type="dcterms:W3CDTF">2007-02-28T15:18:17Z</dcterms:modified>
  <cp:revision>2</cp:revision>
  <dc:subject/>
  <dc:title>A Trashed Slide</dc:title>
</cp:coreProperties>
</file>